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4BF6-4003-4D35-8E2F-F4F68AB96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E976-7926-4417-8187-CB8AB8A15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9A3D-30EE-47A0-91FB-7F3F68EA4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DBAB-001F-4625-B929-7EBAED9A6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9F27-95E7-4C9F-A76A-7554BA864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8A52-0DC0-4658-8859-0F03BF550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D889-C516-441A-9046-3F613B3F4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9BEF-9AC4-4D40-A8AD-2874F6B1A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F312-04D3-42D2-A7C8-DB3552A74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BA2D-764D-4608-B127-3DCFB9F8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0A87-8821-4A2D-9093-74918E46B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D9CE-3197-4FBA-B650-B896B1CA9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7AA12-64A2-4F69-9FE7-A440883E5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REVISIO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J Bru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ill Strib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ntence Vari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sentences begin with a subject followed by a ver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sprain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y ankle the first time I went ice-ska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at cat 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finicky e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rtening Sent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Arial"/>
              </a:rPr>
              <a:t>Sometimes the best way to vary sentence beginnings is to reduce a short sentence to an introductory word, phrase, or clause and attach it to another sent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Arial"/>
              </a:rPr>
              <a:t>Example: The novel put me to sleep after an hour or reading. It is long and du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ff"/>
                </a:solidFill>
                <a:latin typeface="Arial"/>
              </a:rPr>
              <a:t>Long and dull, the novel put me to sleep after an hour of rea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Beginn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66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99"/>
                </a:solidFill>
                <a:latin typeface="Arial"/>
              </a:rPr>
              <a:t>Sentence Conn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buClr>
                <a:srgbClr val="66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99"/>
                </a:solidFill>
                <a:latin typeface="Arial"/>
              </a:rPr>
              <a:t>Almost everyone watches television. </a:t>
            </a:r>
            <a:r>
              <a:rPr b="1" lang="en-US" sz="1600" spc="-1" strike="noStrike">
                <a:solidFill>
                  <a:srgbClr val="66ff99"/>
                </a:solidFill>
                <a:latin typeface="Arial"/>
              </a:rPr>
              <a:t>But</a:t>
            </a:r>
            <a:r>
              <a:rPr b="0" lang="en-US" sz="1600" spc="-1" strike="noStrike">
                <a:solidFill>
                  <a:srgbClr val="66ff99"/>
                </a:solidFill>
                <a:latin typeface="Arial"/>
              </a:rPr>
              <a:t> how many people really know how a television set work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66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99"/>
                </a:solidFill>
                <a:latin typeface="Arial"/>
              </a:rPr>
              <a:t>Apposi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buClr>
                <a:srgbClr val="66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99"/>
                </a:solidFill>
                <a:latin typeface="Arial"/>
              </a:rPr>
              <a:t>A merchant sailor for ten years,</a:t>
            </a:r>
            <a:r>
              <a:rPr b="0" lang="en-US" sz="1600" spc="-1" strike="noStrike">
                <a:solidFill>
                  <a:srgbClr val="66ff99"/>
                </a:solidFill>
                <a:latin typeface="Arial"/>
              </a:rPr>
              <a:t> Jim knew every important port in the worl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66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99"/>
                </a:solidFill>
                <a:latin typeface="Arial"/>
              </a:rPr>
              <a:t>Single-word Mod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buClr>
                <a:srgbClr val="66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99"/>
                </a:solidFill>
                <a:latin typeface="Arial"/>
              </a:rPr>
              <a:t>Shivering,</a:t>
            </a:r>
            <a:r>
              <a:rPr b="0" lang="en-US" sz="1600" spc="-1" strike="noStrike">
                <a:solidFill>
                  <a:srgbClr val="66ff99"/>
                </a:solidFill>
                <a:latin typeface="Arial"/>
              </a:rPr>
              <a:t> we warmed our chapped hands by the fi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66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99"/>
                </a:solidFill>
                <a:latin typeface="Arial"/>
              </a:rPr>
              <a:t>Phrase Mod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buClr>
                <a:srgbClr val="66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ff99"/>
                </a:solidFill>
                <a:latin typeface="Arial"/>
              </a:rPr>
              <a:t>From the window of the plane,</a:t>
            </a:r>
            <a:r>
              <a:rPr b="0" lang="en-US" sz="1600" spc="-1" strike="noStrike">
                <a:solidFill>
                  <a:srgbClr val="66ff99"/>
                </a:solidFill>
                <a:latin typeface="Arial"/>
              </a:rPr>
              <a:t> Marisol saw her family waving goodby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you revise your writing style, it isn’t always enough to vary your sentence beginnings. It’s also important to vary your sentence structures. That means using a mix of simple, compound, complex (and sometimes compound-complex) sentenc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Avoid Wordi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1. Use only the words you need to make your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2. Avoid complicated words where simple ones will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Arial"/>
              </a:rPr>
              <a:t>3. Don’t repeat words unless it’s absolutely necess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ometimes you can fix a wordy sentence by taking out whole groups of unnecessary words. At other times you can revise by reducing clauses to phrases and both clauses and phrases to single wo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99"/>
                </a:solidFill>
                <a:latin typeface="Arial"/>
              </a:rPr>
              <a:t>Word Cho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1219320"/>
            <a:ext cx="4114800" cy="54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99"/>
                </a:solidFill>
                <a:latin typeface="Arial"/>
              </a:rPr>
              <a:t>Wor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99"/>
                </a:solidFill>
                <a:latin typeface="Arial"/>
              </a:rPr>
              <a:t>At which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99"/>
                </a:solidFill>
                <a:latin typeface="Arial"/>
              </a:rPr>
              <a:t>By mean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99"/>
                </a:solidFill>
                <a:latin typeface="Arial"/>
              </a:rPr>
              <a:t>Due to the fact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99"/>
                </a:solidFill>
                <a:latin typeface="Arial"/>
              </a:rPr>
              <a:t>In spite of the fact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99"/>
                </a:solidFill>
                <a:latin typeface="Arial"/>
              </a:rPr>
              <a:t>In the event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99"/>
                </a:solidFill>
                <a:latin typeface="Arial"/>
              </a:rPr>
              <a:t>The fact is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95680" y="1295280"/>
            <a:ext cx="426744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99"/>
                </a:solidFill>
                <a:latin typeface="Arial"/>
              </a:rPr>
              <a:t>Simp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99"/>
                </a:solidFill>
                <a:latin typeface="Arial"/>
              </a:rPr>
              <a:t>W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99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99"/>
                </a:solidFill>
                <a:latin typeface="Arial"/>
              </a:rPr>
              <a:t>Because, si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99"/>
                </a:solidFill>
                <a:latin typeface="Arial"/>
              </a:rPr>
              <a:t>Alth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99"/>
                </a:solidFill>
                <a:latin typeface="Arial"/>
              </a:rPr>
              <a:t>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99"/>
                </a:solidFill>
                <a:latin typeface="Arial"/>
              </a:rPr>
              <a:t>Act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9T17:10:33Z</dcterms:created>
  <dc:creator>User</dc:creator>
  <dc:description/>
  <dc:language>en-US</dc:language>
  <cp:lastModifiedBy>User</cp:lastModifiedBy>
  <dcterms:modified xsi:type="dcterms:W3CDTF">2006-10-10T17:16:17Z</dcterms:modified>
  <cp:revision>3</cp:revision>
  <dc:subject/>
  <dc:title>REVISION 2</dc:title>
</cp:coreProperties>
</file>